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14.jpeg" ContentType="image/jpeg"/>
  <Override PartName="/ppt/media/image8.png" ContentType="image/png"/>
  <Override PartName="/ppt/media/image6.jpeg" ContentType="image/jpeg"/>
  <Override PartName="/ppt/media/image27.jpeg" ContentType="image/jpeg"/>
  <Override PartName="/ppt/media/image13.png" ContentType="image/png"/>
  <Override PartName="/ppt/media/image20.png" ContentType="image/png"/>
  <Override PartName="/ppt/media/image7.jpeg" ContentType="image/jpeg"/>
  <Override PartName="/ppt/media/image28.jpeg" ContentType="image/jpeg"/>
  <Override PartName="/ppt/media/image11.png" ContentType="image/png"/>
  <Override PartName="/ppt/media/image5.png" ContentType="image/png"/>
  <Override PartName="/ppt/media/image10.jpeg" ContentType="image/jpeg"/>
  <Override PartName="/ppt/media/image30.png" ContentType="image/png"/>
  <Override PartName="/ppt/media/image12.png" ContentType="image/png"/>
  <Override PartName="/ppt/media/image31.jpeg" ContentType="image/jpeg"/>
  <Override PartName="/ppt/media/image19.jpeg" ContentType="image/jpeg"/>
  <Override PartName="/ppt/media/image25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32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6.png" ContentType="image/png"/>
  <Override PartName="/ppt/media/image15.png" ContentType="image/png"/>
  <Override PartName="/ppt/media/image18.jpeg" ContentType="image/jpeg"/>
  <Override PartName="/ppt/media/image23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30CB-4FD1-42D5-8A54-F1C45A44C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75A5-C61C-4D0C-BB92-6A78C05F7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653F-F394-483C-BFFC-3A733CDB9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A151-D2DB-4603-93A5-4C2ADF5CB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720B-9FA9-489B-A052-0B8C50DFD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5BCC-895B-4E77-A2FB-33A242CB8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7983-62F4-42F7-BBCD-02A9C31FF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D2B4-4136-42C2-B595-A16A19416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942A-9685-4222-81C1-255D4F0E0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45E0-1135-44F3-9BF5-169D39108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B5C6-9AD4-4C95-A1EA-BCA73BB2F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BA3D-5AEB-470B-ABB2-46A217FD3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FCF7-EBF3-44A7-B394-220970451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0650-5FFF-4525-90AC-A69D67CC1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54AC-F300-4EE2-B711-5D6FBD42A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DCBD-49AC-4CBF-962F-6115EAFBF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DFF8-4B6A-4939-AC2E-7DB7D4261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710D-7BBB-4366-BE80-0797F720A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240D-F9CE-4C90-9976-922CC6AE4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FD80-0BB4-429C-8474-7C08E6EEE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D660-85E9-4648-B290-7013E964F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CDA2A-B11C-4A74-857E-FFC20CCF4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6847-F009-4638-8508-DA59B37E5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6AC8-C320-40E1-879B-2A1C7F6C7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5110-4D38-455F-A17E-A359B8C1C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DFE3-7B45-49C7-82A8-AF23A5BA7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7969-4E81-4793-BAF0-78D5AAF17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413C-517F-4A71-985E-F3E197220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1D2D-2F42-4447-99AE-B140BAFFD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9A8E-DFBB-42FB-8248-E808AFC0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D769-E8EB-402A-83BB-35C85DF3F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6EEB-73EA-4372-8C40-B2C9F0769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AC0F-37D7-48A5-9081-11D260E3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C3DF-0374-4AC0-AEB4-EB6E223C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BEF9-63D5-4C60-B80F-6EB70812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51A6-5E88-4C51-9448-C492EA5F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8E6D-88E2-4935-A727-11F5BE92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B651-5306-4E0E-94D2-A66C4195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4B41-61A2-4F50-91DB-0F1321F5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CE3B-A825-4190-A1D3-4A50A254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8B84-3E3F-4F33-BA2F-CAD195726C6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karenlancour@charter.ne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oinc.org/" TargetMode="External"/><Relationship Id="rId2" Type="http://schemas.openxmlformats.org/officeDocument/2006/relationships/hyperlink" Target="http://www.soinc.org/" TargetMode="Externa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Logo"/>
          <p:cNvPicPr/>
          <p:nvPr/>
        </p:nvPicPr>
        <p:blipFill>
          <a:blip r:embed="rId1"/>
          <a:stretch/>
        </p:blipFill>
        <p:spPr>
          <a:xfrm>
            <a:off x="1652760" y="471600"/>
            <a:ext cx="3073320" cy="1673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1520" y="2238120"/>
            <a:ext cx="8481960" cy="19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030a0"/>
                </a:solidFill>
                <a:latin typeface="Calibri"/>
              </a:rPr>
              <a:t>2011 ECOLOGY (B&amp;C)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303440" y="4543200"/>
            <a:ext cx="4840200" cy="19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0f9f"/>
                </a:solidFill>
                <a:latin typeface="Calibri"/>
              </a:rPr>
              <a:t>KAREN LANCO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alibri"/>
              </a:rPr>
              <a:t>National Bio Rules Committee Chairm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karenlancour@charter.ne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Growth Cur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expgrowth"/>
          <p:cNvPicPr/>
          <p:nvPr/>
        </p:nvPicPr>
        <p:blipFill>
          <a:blip r:embed="rId1"/>
          <a:stretch/>
        </p:blipFill>
        <p:spPr>
          <a:xfrm>
            <a:off x="1460520" y="1893960"/>
            <a:ext cx="718200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Human Pop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humpop_2"/>
          <p:cNvPicPr/>
          <p:nvPr/>
        </p:nvPicPr>
        <p:blipFill>
          <a:blip r:embed="rId1"/>
          <a:stretch/>
        </p:blipFill>
        <p:spPr>
          <a:xfrm>
            <a:off x="1230480" y="1852560"/>
            <a:ext cx="76435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Survival Cur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360" y="2017440"/>
            <a:ext cx="51865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504d"/>
                </a:solidFill>
                <a:uFillTx/>
                <a:latin typeface="Calibri"/>
              </a:rPr>
              <a:t>Survivorship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4f81bd"/>
                </a:solidFill>
                <a:latin typeface="Calibri"/>
              </a:rPr>
              <a:t>is the percentage of remaining survivors of a population over time; usually shown graphically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    </a:t>
            </a:r>
            <a:r>
              <a:rPr b="1" lang="en-US" sz="2000" spc="-1" strike="noStrike" u="sng">
                <a:solidFill>
                  <a:srgbClr val="c0504d"/>
                </a:solidFill>
                <a:uFillTx/>
                <a:latin typeface="Calibri"/>
              </a:rPr>
              <a:t>Type I survivorship curve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4f81bd"/>
                </a:solidFill>
                <a:latin typeface="Calibri"/>
              </a:rPr>
              <a:t>most individuals live out their life span 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81bd"/>
                </a:solidFill>
                <a:latin typeface="Calibri"/>
              </a:rPr>
              <a:t>      </a:t>
            </a:r>
            <a:r>
              <a:rPr b="1" lang="en-US" sz="2000" spc="-1" strike="noStrike">
                <a:solidFill>
                  <a:srgbClr val="4f81bd"/>
                </a:solidFill>
                <a:latin typeface="Calibri"/>
              </a:rPr>
              <a:t>die of old age </a:t>
            </a:r>
            <a:r>
              <a:rPr b="1" lang="en-US" sz="2000" spc="-1" strike="noStrike">
                <a:solidFill>
                  <a:srgbClr val="4f81bd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4f81bd"/>
                </a:solidFill>
                <a:latin typeface="Calibri"/>
              </a:rPr>
              <a:t>(e.g., humans)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    </a:t>
            </a:r>
            <a:r>
              <a:rPr b="1" lang="en-US" sz="2000" spc="-1" strike="noStrike" u="sng">
                <a:solidFill>
                  <a:srgbClr val="c0504d"/>
                </a:solidFill>
                <a:uFillTx/>
                <a:latin typeface="Calibri"/>
              </a:rPr>
              <a:t>Type II survivorship curve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4f81bd"/>
                </a:solidFill>
                <a:latin typeface="Calibri"/>
              </a:rPr>
              <a:t>individuals die at a constant rate (e.g., birds, rodents, and </a:t>
            </a:r>
            <a:r>
              <a:rPr b="1" lang="en-US" sz="2000" spc="-1" strike="noStrike">
                <a:solidFill>
                  <a:srgbClr val="4f81bd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4f81bd"/>
                </a:solidFill>
                <a:latin typeface="Calibri"/>
              </a:rPr>
              <a:t>perennial plants)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     </a:t>
            </a:r>
            <a:r>
              <a:rPr b="1" lang="en-US" sz="2000" spc="-1" strike="noStrike" u="sng">
                <a:solidFill>
                  <a:srgbClr val="c0504d"/>
                </a:solidFill>
                <a:uFillTx/>
                <a:latin typeface="Calibri"/>
              </a:rPr>
              <a:t>Type III survivorship curve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4f81bd"/>
                </a:solidFill>
                <a:latin typeface="Calibri"/>
              </a:rPr>
              <a:t>most individuals die early in life (e.g., fishes, invertebrates, and plants)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Survival Curve"/>
          <p:cNvPicPr/>
          <p:nvPr/>
        </p:nvPicPr>
        <p:blipFill>
          <a:blip r:embed="rId1"/>
          <a:stretch/>
        </p:blipFill>
        <p:spPr>
          <a:xfrm>
            <a:off x="5334120" y="2276640"/>
            <a:ext cx="380988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68320" y="214200"/>
            <a:ext cx="71755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ECOLOGY OF COMMUNITI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47760" y="2046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Closed vs. Open commun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Closed – </a:t>
            </a:r>
            <a:r>
              <a:rPr b="1" lang="en-US" sz="2400" spc="-1" strike="noStrike">
                <a:solidFill>
                  <a:srgbClr val="009900"/>
                </a:solidFill>
                <a:latin typeface="Calibri"/>
              </a:rPr>
              <a:t>sharp bounda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Open – </a:t>
            </a:r>
            <a:r>
              <a:rPr b="1" lang="en-US" sz="2400" spc="-1" strike="noStrike">
                <a:solidFill>
                  <a:srgbClr val="009900"/>
                </a:solidFill>
                <a:latin typeface="Calibri"/>
              </a:rPr>
              <a:t>Lack boundaries</a:t>
            </a: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Species abundance and divers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Trophic Structure of Commun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alibri"/>
              </a:rPr>
              <a:t>Food cha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alibri"/>
              </a:rPr>
              <a:t>Food we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alibri"/>
              </a:rPr>
              <a:t>Trophic pyramid</a:t>
            </a: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INTERACTIONS AMONG SPE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81bd"/>
                </a:solidFill>
                <a:latin typeface="Calibri"/>
              </a:rPr>
              <a:t>Interac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81bd"/>
                </a:solidFill>
                <a:latin typeface="Calibri"/>
              </a:rPr>
              <a:t>Interspecific competi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81bd"/>
                </a:solidFill>
                <a:latin typeface="Calibri"/>
              </a:rPr>
              <a:t>Pred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81bd"/>
                </a:solidFill>
                <a:latin typeface="Calibri"/>
              </a:rPr>
              <a:t>Exploit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81bd"/>
                </a:solidFill>
                <a:latin typeface="Calibri"/>
              </a:rPr>
              <a:t>Symbiosis</a:t>
            </a: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06480" y="214200"/>
            <a:ext cx="713736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Types of Species Interactions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23360" y="2162160"/>
            <a:ext cx="872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Neutral</a:t>
            </a: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 – two species do not interac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Mutualism</a:t>
            </a: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 – both benef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Commensalism</a:t>
            </a: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 – one benefits, other neutr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Parasitism</a:t>
            </a: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 – one benefits, one harm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but not killed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Predation</a:t>
            </a: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 – one benefits, other kil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60560" y="214200"/>
            <a:ext cx="698328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Predator -  Prey Relationsh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graphpred"/>
          <p:cNvPicPr/>
          <p:nvPr/>
        </p:nvPicPr>
        <p:blipFill>
          <a:blip r:embed="rId1"/>
          <a:stretch/>
        </p:blipFill>
        <p:spPr>
          <a:xfrm>
            <a:off x="1154160" y="1930320"/>
            <a:ext cx="698976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Food Chai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0" y="204624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rose pla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aphid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800080"/>
                </a:solidFill>
                <a:latin typeface="Calibri"/>
              </a:rPr>
              <a:t>beetl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66ccff"/>
                </a:solidFill>
                <a:latin typeface="Calibri"/>
              </a:rPr>
              <a:t>chamele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 haw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Produc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1</a:t>
            </a:r>
            <a:r>
              <a:rPr b="1" lang="en-US" sz="2800" spc="-1" strike="noStrike" baseline="30000">
                <a:solidFill>
                  <a:srgbClr val="c0504d"/>
                </a:solidFill>
                <a:latin typeface="Calibri"/>
              </a:rPr>
              <a:t>st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order Consumer or Herbiv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alibri"/>
              </a:rPr>
              <a:t>2</a:t>
            </a:r>
            <a:r>
              <a:rPr b="1" lang="en-US" sz="2800" spc="-1" strike="noStrike" baseline="30000">
                <a:solidFill>
                  <a:srgbClr val="800080"/>
                </a:solidFill>
                <a:latin typeface="Calibri"/>
              </a:rPr>
              <a:t>nd</a:t>
            </a:r>
            <a:r>
              <a:rPr b="1" lang="en-US" sz="2800" spc="-1" strike="noStrike">
                <a:solidFill>
                  <a:srgbClr val="800080"/>
                </a:solidFill>
                <a:latin typeface="Calibri"/>
              </a:rPr>
              <a:t> order Consumer or 1</a:t>
            </a:r>
            <a:r>
              <a:rPr b="1" lang="en-US" sz="2800" spc="-1" strike="noStrike" baseline="30000">
                <a:solidFill>
                  <a:srgbClr val="800080"/>
                </a:solidFill>
                <a:latin typeface="Calibri"/>
              </a:rPr>
              <a:t>st</a:t>
            </a:r>
            <a:r>
              <a:rPr b="1" lang="en-US" sz="2800" spc="-1" strike="noStrike">
                <a:solidFill>
                  <a:srgbClr val="800080"/>
                </a:solidFill>
                <a:latin typeface="Calibri"/>
              </a:rPr>
              <a:t> order Carniv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alibri"/>
              </a:rPr>
              <a:t>3</a:t>
            </a:r>
            <a:r>
              <a:rPr b="1" lang="en-US" sz="2800" spc="-1" strike="noStrike" baseline="30000">
                <a:solidFill>
                  <a:srgbClr val="66ccff"/>
                </a:solidFill>
                <a:latin typeface="Calibri"/>
              </a:rPr>
              <a:t>rd</a:t>
            </a:r>
            <a:r>
              <a:rPr b="1" lang="en-US" sz="2800" spc="-1" strike="noStrike">
                <a:solidFill>
                  <a:srgbClr val="66ccff"/>
                </a:solidFill>
                <a:latin typeface="Calibri"/>
              </a:rPr>
              <a:t> order Consumer or 2</a:t>
            </a:r>
            <a:r>
              <a:rPr b="1" lang="en-US" sz="2800" spc="-1" strike="noStrike" baseline="30000">
                <a:solidFill>
                  <a:srgbClr val="66ccff"/>
                </a:solidFill>
                <a:latin typeface="Calibri"/>
              </a:rPr>
              <a:t>nd</a:t>
            </a:r>
            <a:r>
              <a:rPr b="1" lang="en-US" sz="2800" spc="-1" strike="noStrike">
                <a:solidFill>
                  <a:srgbClr val="66ccff"/>
                </a:solidFill>
                <a:latin typeface="Calibri"/>
              </a:rPr>
              <a:t> order Carniv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4</a:t>
            </a:r>
            <a:r>
              <a:rPr b="1" lang="en-US" sz="2800" spc="-1" strike="noStrike" baseline="30000">
                <a:solidFill>
                  <a:srgbClr val="1f497d"/>
                </a:solidFill>
                <a:latin typeface="Calibri"/>
              </a:rPr>
              <a:t>th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 order Consumer or 3</a:t>
            </a:r>
            <a:r>
              <a:rPr b="1" lang="en-US" sz="2800" spc="-1" strike="noStrike" baseline="30000">
                <a:solidFill>
                  <a:srgbClr val="1f497d"/>
                </a:solidFill>
                <a:latin typeface="Calibri"/>
              </a:rPr>
              <a:t>rd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 order Carniv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Decomposers – consume dead and decaying matt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Food W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freshwater_foodweb_k3"/>
          <p:cNvPicPr/>
          <p:nvPr/>
        </p:nvPicPr>
        <p:blipFill>
          <a:blip r:embed="rId1"/>
          <a:stretch/>
        </p:blipFill>
        <p:spPr>
          <a:xfrm>
            <a:off x="1177920" y="1600200"/>
            <a:ext cx="6788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ECOLOGY OF ECO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39640" y="2122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Energy Flow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alibri"/>
              </a:rPr>
              <a:t>Energy Flow Pyram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alibri"/>
              </a:rPr>
              <a:t>Bio-mass Pyram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Community Succession and St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Nutrient Recycling </a:t>
            </a:r>
            <a:r>
              <a:rPr b="1" lang="en-US" sz="3200" spc="-1" strike="noStrike">
                <a:solidFill>
                  <a:srgbClr val="009900"/>
                </a:solidFill>
                <a:latin typeface="Calibri"/>
              </a:rPr>
              <a:t>– nutrient cycle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Event Rules – 2011</a:t>
            </a:r>
            <a:r>
              <a:rPr b="0" lang="en-US" sz="4400" spc="-1" strike="noStrike">
                <a:solidFill>
                  <a:srgbClr val="a7639d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33cc"/>
                </a:solidFill>
                <a:latin typeface="Calibri"/>
              </a:rPr>
              <a:t>DISCLAIM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c10f9f"/>
                </a:solidFill>
                <a:latin typeface="Calibri"/>
              </a:rPr>
              <a:t>This presentation was prepared using draft rules.  There may be some changes in the final copy of the rules.</a:t>
            </a:r>
            <a:r>
              <a:rPr b="1" lang="en-US" sz="3200" spc="-1" strike="noStrike">
                <a:solidFill>
                  <a:srgbClr val="009900"/>
                </a:solidFill>
                <a:latin typeface="Calibri"/>
              </a:rPr>
              <a:t>  </a:t>
            </a: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The rules which will be in your Coaches Manual and Student Manuals will be the official rules.</a:t>
            </a:r>
            <a:br>
              <a:rPr sz="1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Energy vs Nutri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70000" y="2017800"/>
            <a:ext cx="3571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Nutrient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cycl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(Biogeochemical Cycle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Energy flo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one wa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Energy vs Chemicals"/>
          <p:cNvPicPr/>
          <p:nvPr/>
        </p:nvPicPr>
        <p:blipFill>
          <a:blip r:embed="rId1"/>
          <a:stretch/>
        </p:blipFill>
        <p:spPr>
          <a:xfrm>
            <a:off x="3689280" y="1844640"/>
            <a:ext cx="545472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Ecologic Pyramids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1662120"/>
            <a:ext cx="91440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9900"/>
                </a:solidFill>
                <a:latin typeface="Calibri"/>
              </a:rPr>
              <a:t>Ecological pyrami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n-US" sz="3200" spc="-1" strike="noStrike">
                <a:solidFill>
                  <a:srgbClr val="c10f9f"/>
                </a:solidFill>
                <a:latin typeface="Calibri"/>
              </a:rPr>
              <a:t>a graph representing trophic level numbers within an ecosystem. The primary producer level is at the base of the pyramid with the consumer levels abov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9900"/>
                </a:solidFill>
                <a:latin typeface="Calibri"/>
              </a:rPr>
              <a:t>Numbers pyrami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n-US" sz="3200" spc="-1" strike="noStrike">
                <a:solidFill>
                  <a:srgbClr val="c10f9f"/>
                </a:solidFill>
                <a:latin typeface="Calibri"/>
              </a:rPr>
              <a:t>compares the number of individuals in each trophic leve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9900"/>
                </a:solidFill>
                <a:latin typeface="Calibri"/>
              </a:rPr>
              <a:t>Biomass pyrami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n-US" sz="3200" spc="-1" strike="noStrike">
                <a:solidFill>
                  <a:srgbClr val="c10f9f"/>
                </a:solidFill>
                <a:latin typeface="Calibri"/>
              </a:rPr>
              <a:t>compares the total dry weight of the organisms in each trophic level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9900"/>
                </a:solidFill>
                <a:latin typeface="Calibri"/>
              </a:rPr>
              <a:t>Energy pyrami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n-US" sz="3200" spc="-1" strike="noStrike">
                <a:solidFill>
                  <a:srgbClr val="c10f9f"/>
                </a:solidFill>
                <a:latin typeface="Calibri"/>
              </a:rPr>
              <a:t>compares the total amount of energy available in each trophic level. This energy is usually measured in kilocalor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10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Numbers Pyrami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Numbers Pyramid 2"/>
          <p:cNvPicPr/>
          <p:nvPr/>
        </p:nvPicPr>
        <p:blipFill>
          <a:blip r:embed="rId1"/>
          <a:stretch/>
        </p:blipFill>
        <p:spPr>
          <a:xfrm>
            <a:off x="654120" y="2122560"/>
            <a:ext cx="8224920" cy="49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7639d"/>
                </a:solidFill>
                <a:latin typeface="Calibri"/>
              </a:rPr>
              <a:t>Biomass &amp; Energy Flow </a:t>
            </a:r>
            <a:r>
              <a:rPr b="1" lang="en-US" sz="4000" spc="-1" strike="noStrike">
                <a:solidFill>
                  <a:srgbClr val="a7639d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a7639d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a7639d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a7639d"/>
                </a:solidFill>
                <a:latin typeface="Calibri"/>
              </a:rPr>
              <a:t>Pyrami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enpyr_1"/>
          <p:cNvPicPr/>
          <p:nvPr/>
        </p:nvPicPr>
        <p:blipFill>
          <a:blip r:embed="rId1"/>
          <a:stretch/>
        </p:blipFill>
        <p:spPr>
          <a:xfrm>
            <a:off x="539640" y="2238480"/>
            <a:ext cx="860436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5640" y="241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Biogeochemical Cycl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1880" y="1661760"/>
            <a:ext cx="777240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10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0f9f"/>
                </a:solidFill>
                <a:latin typeface="Calibri"/>
              </a:rPr>
              <a:t>Hydrologic Cyc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0f9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10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0f9f"/>
                </a:solidFill>
                <a:latin typeface="Calibri"/>
              </a:rPr>
              <a:t>Phosphorus Cyc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10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0f9f"/>
                </a:solidFill>
                <a:latin typeface="Calibri"/>
              </a:rPr>
              <a:t>Nitrogen Cyc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10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0f9f"/>
                </a:solidFill>
                <a:latin typeface="Calibri"/>
              </a:rPr>
              <a:t>Carbon Cyc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Hydrologic (Water) 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9" descr="Water Cycle 2"/>
          <p:cNvPicPr/>
          <p:nvPr/>
        </p:nvPicPr>
        <p:blipFill>
          <a:blip r:embed="rId1"/>
          <a:stretch/>
        </p:blipFill>
        <p:spPr>
          <a:xfrm>
            <a:off x="1116000" y="2201760"/>
            <a:ext cx="672156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Phosphorus 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7" descr="Phorphorus cycle"/>
          <p:cNvPicPr/>
          <p:nvPr/>
        </p:nvPicPr>
        <p:blipFill>
          <a:blip r:embed="rId1"/>
          <a:stretch/>
        </p:blipFill>
        <p:spPr>
          <a:xfrm>
            <a:off x="309600" y="1789200"/>
            <a:ext cx="837252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Nitrogen 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Nitrogen cycle"/>
          <p:cNvPicPr/>
          <p:nvPr/>
        </p:nvPicPr>
        <p:blipFill>
          <a:blip r:embed="rId1"/>
          <a:stretch/>
        </p:blipFill>
        <p:spPr>
          <a:xfrm>
            <a:off x="1576440" y="2017800"/>
            <a:ext cx="6835680" cy="47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Carbon Cycl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Carbon cycle"/>
          <p:cNvPicPr/>
          <p:nvPr/>
        </p:nvPicPr>
        <p:blipFill>
          <a:blip r:embed="rId1"/>
          <a:stretch/>
        </p:blipFill>
        <p:spPr>
          <a:xfrm>
            <a:off x="1192320" y="1755720"/>
            <a:ext cx="729756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Biospher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5560" y="201780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Types of Ecological Sphe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alibri"/>
              </a:rPr>
              <a:t>Biosp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alibri"/>
              </a:rPr>
              <a:t>Lithosp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alibri"/>
              </a:rPr>
              <a:t>Hydrosp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alibri"/>
              </a:rPr>
              <a:t>Atmosp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Biogeochemical Cycl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Disruption of Biosp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Specie Extinction &amp; Biosphere Destr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Event Rules – 2011</a:t>
            </a:r>
            <a:r>
              <a:rPr b="0" lang="en-US" sz="4400" spc="-1" strike="noStrike">
                <a:solidFill>
                  <a:srgbClr val="a7639d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-360" y="20178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10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10f9f"/>
                </a:solidFill>
                <a:latin typeface="Calibri"/>
              </a:rPr>
              <a:t>BE SURE TO CHECK THE 2011 EVENT RULES </a:t>
            </a:r>
            <a:r>
              <a:rPr b="1" lang="en-US" sz="4400" spc="-1" strike="noStrike">
                <a:solidFill>
                  <a:srgbClr val="0033cc"/>
                </a:solidFill>
                <a:latin typeface="Calibri"/>
              </a:rPr>
              <a:t>FOR EVENT PARAMETERS AND TOPICS FOR EACH COMPETITION LEVEL</a:t>
            </a:r>
            <a:r>
              <a:rPr b="0" lang="en-US" sz="4400" spc="-1" strike="noStrike">
                <a:solidFill>
                  <a:srgbClr val="0033cc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7639d"/>
                </a:solidFill>
                <a:latin typeface="Calibri"/>
              </a:rPr>
              <a:t>Section II: ECOLOGY OF </a:t>
            </a:r>
            <a:r>
              <a:rPr b="1" lang="en-US" sz="4000" spc="-1" strike="noStrike">
                <a:solidFill>
                  <a:srgbClr val="a7639d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a7639d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a7639d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a7639d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a7639d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a7639d"/>
                </a:solidFill>
                <a:latin typeface="Calibri"/>
              </a:rPr>
              <a:t>    BIO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23720" y="2017440"/>
            <a:ext cx="853128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Weather and Climate</a:t>
            </a: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Types of Biomes</a:t>
            </a: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alibri"/>
              </a:rPr>
              <a:t>Aquatic bio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alibri"/>
              </a:rPr>
              <a:t>Terrestrial bio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2010 –  Biomes of North America </a:t>
            </a: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alibri"/>
              </a:rPr>
              <a:t>Grassl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alibri"/>
              </a:rPr>
              <a:t>Taiga (Boreal Forest or Coniferous Forest)</a:t>
            </a:r>
            <a:r>
              <a:rPr b="1" lang="en-US" sz="2800" spc="-1" strike="noStrike">
                <a:solidFill>
                  <a:srgbClr val="0099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7639d"/>
                </a:solidFill>
                <a:latin typeface="Calibri"/>
              </a:rPr>
              <a:t>Terrestrial Biomes – Latitude vs. Altitud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AltitudeVsLatitude012"/>
          <p:cNvPicPr/>
          <p:nvPr/>
        </p:nvPicPr>
        <p:blipFill>
          <a:blip r:embed="rId1"/>
          <a:stretch/>
        </p:blipFill>
        <p:spPr>
          <a:xfrm>
            <a:off x="385920" y="2328840"/>
            <a:ext cx="841032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08200" y="214200"/>
            <a:ext cx="848808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7639d"/>
                </a:solidFill>
                <a:latin typeface="Calibri"/>
              </a:rPr>
              <a:t>Biomes: </a:t>
            </a:r>
            <a:br>
              <a:rPr sz="3200"/>
            </a:br>
            <a:r>
              <a:rPr b="1" lang="en-US" sz="3200" spc="-1" strike="noStrike">
                <a:solidFill>
                  <a:srgbClr val="a7639d"/>
                </a:solidFill>
                <a:latin typeface="Calibri"/>
              </a:rPr>
              <a:t>Temperature and Climate for Terrestrial Biom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4" descr="biome_alt"/>
          <p:cNvPicPr/>
          <p:nvPr/>
        </p:nvPicPr>
        <p:blipFill>
          <a:blip r:embed="rId1"/>
          <a:stretch/>
        </p:blipFill>
        <p:spPr>
          <a:xfrm>
            <a:off x="539640" y="1784520"/>
            <a:ext cx="7910640" cy="49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Adaptations of Plants &amp; Anim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54120" y="2017800"/>
            <a:ext cx="7988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Not intended to be a taxonomic ev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Emphasis on adaptations of common plants and animals to each bi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Common members of food chains and food webs of each biom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Limiting factors for each bi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31520" y="214200"/>
            <a:ext cx="806436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7639d"/>
                </a:solidFill>
                <a:latin typeface="Calibri"/>
              </a:rPr>
              <a:t>    </a:t>
            </a:r>
            <a:r>
              <a:rPr b="1" lang="en-US" sz="4000" spc="-1" strike="noStrike">
                <a:solidFill>
                  <a:srgbClr val="a7639d"/>
                </a:solidFill>
                <a:latin typeface="Calibri"/>
              </a:rPr>
              <a:t>TAIGA OF NORTH AMER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1880" y="2017800"/>
            <a:ext cx="4530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2nd largest forest in the wor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Ring Artic between Artic and Deciduous Forest – 50 to 60 degrees North Latitud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Upper elevations of Mounta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6" descr="Taiga2"/>
          <p:cNvPicPr/>
          <p:nvPr/>
        </p:nvPicPr>
        <p:blipFill>
          <a:blip r:embed="rId1"/>
          <a:stretch/>
        </p:blipFill>
        <p:spPr>
          <a:xfrm>
            <a:off x="4802040" y="2033640"/>
            <a:ext cx="411012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61920" y="214200"/>
            <a:ext cx="7981920" cy="156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Tiaga or Boreal (Evergreen) forests of North Americ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9" descr="taiga - boreal forest 2"/>
          <p:cNvPicPr/>
          <p:nvPr/>
        </p:nvPicPr>
        <p:blipFill>
          <a:blip r:embed="rId1"/>
          <a:stretch/>
        </p:blipFill>
        <p:spPr>
          <a:xfrm>
            <a:off x="5072040" y="2276640"/>
            <a:ext cx="3479760" cy="3174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taiga - boreal forest"/>
          <p:cNvPicPr/>
          <p:nvPr/>
        </p:nvPicPr>
        <p:blipFill>
          <a:blip r:embed="rId2"/>
          <a:stretch/>
        </p:blipFill>
        <p:spPr>
          <a:xfrm>
            <a:off x="731880" y="2622600"/>
            <a:ext cx="380988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Taiga – Abiotic Factor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1930320"/>
            <a:ext cx="914400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Angle of incidence for incoming solar radiation is low and twilight lasts many hou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Seasons- short, moist and moderately warm summers &amp; long, cold, dry winters.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Temperature:  -65 to 70 degrees Fahrenhei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Variable precipitation: 6-40 in (15-100 cm)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Soils – thin because they were scraped by glaciers and very acid because of decomposition of pine needl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Absence of earth-churning invertebrates as earthworms so soil is hard and compac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Fire a major factor in maintaining bio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7639d"/>
                </a:solidFill>
                <a:latin typeface="Calibri"/>
              </a:rPr>
              <a:t>Environmental Importance</a:t>
            </a:r>
            <a:br>
              <a:rPr sz="4000"/>
            </a:br>
            <a:r>
              <a:rPr b="1" lang="en-US" sz="4000" spc="-1" strike="noStrike">
                <a:solidFill>
                  <a:srgbClr val="a7639d"/>
                </a:solidFill>
                <a:latin typeface="Calibri"/>
              </a:rPr>
              <a:t>of the Taiga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2046240"/>
            <a:ext cx="875808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Filters millions of liters of wat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Stores large amounts of carb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Produces oxy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Rebuilds soils and restores nutri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Bogs and marshes provides habitats for large numbers of species from fish to bird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Taiga - Food web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4" descr="Boreal Forest Food Web"/>
          <p:cNvPicPr/>
          <p:nvPr/>
        </p:nvPicPr>
        <p:blipFill>
          <a:blip r:embed="rId1"/>
          <a:stretch/>
        </p:blipFill>
        <p:spPr>
          <a:xfrm>
            <a:off x="1268280" y="1163520"/>
            <a:ext cx="706752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Taiga: Types of Plan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47400" y="2017440"/>
            <a:ext cx="86072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Conifers are major produc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Most common types – spruce, balsam fir and pi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Others – hemlock, cedar, redwood, junip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Latitude and altitude influences spe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Berry-producing shrubs important to birds, mammals and peop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Some types of fungi, lichens, and mo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TRAINING MATERI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69640" y="1009800"/>
            <a:ext cx="86850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Training Power Point </a:t>
            </a:r>
            <a:r>
              <a:rPr b="1" lang="en-US" sz="3000" spc="-1" strike="noStrike">
                <a:solidFill>
                  <a:srgbClr val="009900"/>
                </a:solidFill>
                <a:latin typeface="Calibri"/>
              </a:rPr>
              <a:t>– content overvie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Training Handout </a:t>
            </a:r>
            <a:r>
              <a:rPr b="1" lang="en-US" sz="3000" spc="-1" strike="noStrike">
                <a:solidFill>
                  <a:srgbClr val="009900"/>
                </a:solidFill>
                <a:latin typeface="Calibri"/>
              </a:rPr>
              <a:t>– content informat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Sample Tournament </a:t>
            </a:r>
            <a:r>
              <a:rPr b="1" lang="en-US" sz="3000" spc="-1" strike="noStrike">
                <a:solidFill>
                  <a:srgbClr val="009900"/>
                </a:solidFill>
                <a:latin typeface="Calibri"/>
              </a:rPr>
              <a:t>– sample problems with key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Event Supervisor Guide </a:t>
            </a:r>
            <a:r>
              <a:rPr b="1" lang="en-US" sz="3000" spc="-1" strike="noStrike">
                <a:solidFill>
                  <a:srgbClr val="009900"/>
                </a:solidFill>
                <a:latin typeface="Calibri"/>
              </a:rPr>
              <a:t>– prep tips, setup needs, and scoring ti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Internet Resources &amp; Training Materials </a:t>
            </a:r>
            <a:r>
              <a:rPr b="1" lang="en-US" sz="3000" spc="-1" strike="noStrike">
                <a:solidFill>
                  <a:srgbClr val="009900"/>
                </a:solidFill>
                <a:latin typeface="Calibri"/>
              </a:rPr>
              <a:t>– on the Science Olympiad website at 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soinc.org</a:t>
            </a:r>
            <a:r>
              <a:rPr b="1" lang="en-US" sz="3000" spc="-1" strike="noStrike">
                <a:solidFill>
                  <a:srgbClr val="009900"/>
                </a:solidFill>
                <a:latin typeface="Calibri"/>
              </a:rPr>
              <a:t> under Event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A Biology-Earth Science CD </a:t>
            </a:r>
            <a:r>
              <a:rPr b="1" lang="en-US" sz="3000" spc="-1" strike="noStrike">
                <a:solidFill>
                  <a:srgbClr val="009900"/>
                </a:solidFill>
                <a:latin typeface="Calibri"/>
              </a:rPr>
              <a:t>as well as the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Division B and Division C Test Packets</a:t>
            </a:r>
            <a:r>
              <a:rPr b="0" lang="en-US" sz="3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9900"/>
                </a:solidFill>
                <a:latin typeface="Calibri"/>
              </a:rPr>
              <a:t>are available from SO store at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soinc.or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Taiga: Plant Adaptatio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69640" y="2017440"/>
            <a:ext cx="868500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Trees have upside down cone shape so snow slides off the branch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Branches are flexible to hold great amounts of snow and not brea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Trees grow thin and close together to protect them from cold and wi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Needles waxy for protection from freezing temperatures and prevent them from drying ou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Needles are present year round and deep green to absorb the maximum warmth from the sun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Thick bark which does not easily burn and protects inner layers from heat and cones protect the see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Taiga:  Types of Anim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360" y="1547280"/>
            <a:ext cx="895500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Insects – millions of insects in the summ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birds – up to 3 billion insect-eating birds breed each year in Taiga – over 200 spe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Seed eaters like finches and sparrows as well as omnivorous birds as crows stay all 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Crossbill has specialized bill for prying open cones and nuthatch can break the cones open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Herbivores as small mammals, snowshoe rabbits, red squirrels, voles  and lemm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Predators feeding on small mammals as owls, wolves, lynx, bobcats, minks, wolverines, weasels, mink, otters, martens, fishers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Deer, elk and moo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Largest predators as grizzlies, lynx, and mountain lions will also feed on weakened or young deer, elk or moo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8673840" cy="16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7639d"/>
                </a:solidFill>
                <a:latin typeface="Calibri"/>
              </a:rPr>
              <a:t>Taiga:  Animal Adaptations for long cold winters and hot summers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31480" y="2017440"/>
            <a:ext cx="872316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migrate south in winter (bird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go into hibernation during wint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store extra fat layers on their bodies for wint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change diets from season to seas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grow extra fur on the bottom of their feet to tread on snow easier  (lynx and snowshoe rabbi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change fur color and coat thickness from season to seas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live under snow in winter in snow tunnels (lemmings, mice, shrews, voles)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31520" y="27432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Taiga: Environmental Concer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85560" y="1469520"/>
            <a:ext cx="85690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Pollution Clear cut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Illegal logg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Poa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Forest fires – unnatural fi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Mi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Drilling for oil and natural gas disrupt the for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Global warming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Taiga:  Role in Earth’s Clima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0" y="1355760"/>
            <a:ext cx="9144000" cy="55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It stores large quantities of carbon stored as plant material on forest floor (up to 10 feet in some area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1 cm of plant material can hold 2.5 tons of carbon per ac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Taiga acts like a large refrigerator preventing fallen trees, needles and other debris from decompos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Heating up the taiga is causing the following problem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Litter decomposes putting carbon into the atmosp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Increases in forest fir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Infestation by bark beetles which is killing the tre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Dead trees - tinder to fuel the forest fires and adding 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more 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carbon dioxide into the atmosphe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7639d"/>
                </a:solidFill>
                <a:latin typeface="Calibri"/>
              </a:rPr>
              <a:t>TUNDRA OF NORTH AMER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0000" y="1508040"/>
            <a:ext cx="364968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About one fifth of the land surface of the earth is tundra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Located next to icy zones in the arctic encircling North Pole down to Taiga. (Arctic Tundra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Located at the top of mountains above the tree line ( Alpine Tundra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Content Placeholder 6" descr="Tundra map.gif"/>
          <p:cNvPicPr/>
          <p:nvPr/>
        </p:nvPicPr>
        <p:blipFill>
          <a:blip r:embed="rId1"/>
          <a:stretch/>
        </p:blipFill>
        <p:spPr>
          <a:xfrm>
            <a:off x="4417920" y="1355760"/>
            <a:ext cx="3921120" cy="2571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Arctic Tundra and Alaska Pipeline - Alaska"/>
          <p:cNvPicPr/>
          <p:nvPr/>
        </p:nvPicPr>
        <p:blipFill>
          <a:blip r:embed="rId2"/>
          <a:stretch/>
        </p:blipFill>
        <p:spPr>
          <a:xfrm>
            <a:off x="4341960" y="3352680"/>
            <a:ext cx="426240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TUNDRA OF NORTH AME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6" descr="Alpine tundra photos"/>
          <p:cNvPicPr/>
          <p:nvPr/>
        </p:nvPicPr>
        <p:blipFill>
          <a:blip r:embed="rId1"/>
          <a:stretch/>
        </p:blipFill>
        <p:spPr>
          <a:xfrm>
            <a:off x="1230480" y="1623960"/>
            <a:ext cx="6567480" cy="2262240"/>
          </a:xfrm>
          <a:prstGeom prst="rect">
            <a:avLst/>
          </a:prstGeom>
          <a:ln w="0">
            <a:noFill/>
          </a:ln>
        </p:spPr>
      </p:pic>
      <p:sp>
        <p:nvSpPr>
          <p:cNvPr id="147" name="TextBox 3"/>
          <p:cNvSpPr/>
          <p:nvPr/>
        </p:nvSpPr>
        <p:spPr>
          <a:xfrm>
            <a:off x="501480" y="4235400"/>
            <a:ext cx="8180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Simple vegetation 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Limitation of drain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Energy and nutrients in the form of dead orga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mater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Large population oscill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TUNDRA – Abiotic Factor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93680" y="1278000"/>
            <a:ext cx="87948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alibri"/>
              </a:rPr>
              <a:t>Angle of incidence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for incoming solar radiation is low and twilight lasts many hou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alibri"/>
              </a:rPr>
              <a:t>Temperature -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extremely cold - from  -30</a:t>
            </a:r>
            <a:r>
              <a:rPr b="1" lang="en-US" sz="2400" spc="-1" strike="noStrike" baseline="30000">
                <a:solidFill>
                  <a:srgbClr val="7030a0"/>
                </a:solidFill>
                <a:latin typeface="Calibri"/>
              </a:rPr>
              <a:t>o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C to -40</a:t>
            </a:r>
            <a:r>
              <a:rPr b="1" lang="en-US" sz="2400" spc="-1" strike="noStrike" baseline="30000">
                <a:solidFill>
                  <a:srgbClr val="7030a0"/>
                </a:solidFill>
                <a:latin typeface="Calibri"/>
              </a:rPr>
              <a:t>o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C in winter; average winter temperature of  - 34 degrees C ( -30 degrees F).  Highest summer temperature is only about 10</a:t>
            </a:r>
            <a:r>
              <a:rPr b="1" lang="en-US" sz="2400" spc="-1" strike="noStrike" baseline="30000">
                <a:solidFill>
                  <a:srgbClr val="7030a0"/>
                </a:solidFill>
                <a:latin typeface="Calibri"/>
              </a:rPr>
              <a:t>o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 C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alibri"/>
              </a:rPr>
              <a:t>Annual precipitation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(mostly as snow) is 6 to 10 inches (15 to 25 cm) which is desert-li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alibri"/>
              </a:rPr>
              <a:t>Winds -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often reach speeds of 30 to 60 miles (48 to 97 km/h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alibri"/>
              </a:rPr>
              <a:t>Sunlight -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During the winter there are only a few hours or less of sunlight in the summer, there is sunlight almost 24 hours a da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alibri"/>
              </a:rPr>
              <a:t>Ground surface -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spongy, uneven as a result of freezing and thaw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alibri"/>
              </a:rPr>
              <a:t>Permafrost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 - Plains of tundra are covered with snow, ice and frozen soil most of the yea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alibri"/>
              </a:rPr>
              <a:t>Growing Season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- Short season of growth and reproduction - from 50 to 60 d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7800" y="214200"/>
            <a:ext cx="7988400" cy="12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Tundra Food Web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961920" y="1393920"/>
            <a:ext cx="768060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Tundra Energy Pyrami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4" descr="http://www.world-builders.org/lessons/less/biomes/tundra/tundragifs/predpy.gif"/>
          <p:cNvPicPr/>
          <p:nvPr/>
        </p:nvPicPr>
        <p:blipFill>
          <a:blip r:embed="rId1"/>
          <a:stretch/>
        </p:blipFill>
        <p:spPr>
          <a:xfrm>
            <a:off x="1884240" y="1432080"/>
            <a:ext cx="5183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1880" y="279360"/>
            <a:ext cx="8229600" cy="88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EVENT COMPONEN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15600" y="1815840"/>
            <a:ext cx="819468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Ecology Content –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Principles of Ecology  </a:t>
            </a:r>
            <a:r>
              <a:rPr b="1" lang="en-US" sz="2800" spc="-1" strike="noStrike">
                <a:solidFill>
                  <a:srgbClr val="009900"/>
                </a:solidFill>
                <a:latin typeface="Calibri"/>
              </a:rPr>
              <a:t>(about 50 %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Taiga</a:t>
            </a:r>
            <a:r>
              <a:rPr b="1" lang="en-US" sz="2800" spc="-1" strike="noStrike">
                <a:solidFill>
                  <a:srgbClr val="0099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Tundra (new) </a:t>
            </a:r>
            <a:r>
              <a:rPr b="1" lang="en-US" sz="2800" spc="-1" strike="noStrike">
                <a:solidFill>
                  <a:srgbClr val="009900"/>
                </a:solidFill>
                <a:latin typeface="Calibri"/>
              </a:rPr>
              <a:t>of North America (about 50%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Process skills</a:t>
            </a:r>
            <a:r>
              <a:rPr b="1" lang="en-US" sz="2800" spc="-1" strike="noStrike">
                <a:solidFill>
                  <a:srgbClr val="009900"/>
                </a:solidFill>
                <a:latin typeface="Calibri"/>
              </a:rPr>
              <a:t> in data, graph and diagram analys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Event parameters – </a:t>
            </a:r>
            <a:r>
              <a:rPr b="1" i="1" lang="en-US" sz="2800" spc="-1" strike="noStrike">
                <a:solidFill>
                  <a:srgbClr val="009900"/>
                </a:solidFill>
                <a:latin typeface="Calibri"/>
              </a:rPr>
              <a:t>check the event parameters in the rules for resources allow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TUNDRA  of North Americ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Content Placeholder 3" descr="a food pyramid"/>
          <p:cNvPicPr/>
          <p:nvPr/>
        </p:nvPicPr>
        <p:blipFill>
          <a:blip r:embed="rId1"/>
          <a:stretch/>
        </p:blipFill>
        <p:spPr>
          <a:xfrm>
            <a:off x="961920" y="1355760"/>
            <a:ext cx="7336080" cy="38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Plants of the Tundr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5" descr="Lichen"/>
          <p:cNvPicPr/>
          <p:nvPr/>
        </p:nvPicPr>
        <p:blipFill>
          <a:blip r:embed="rId1"/>
          <a:stretch/>
        </p:blipFill>
        <p:spPr>
          <a:xfrm>
            <a:off x="770040" y="1355760"/>
            <a:ext cx="2878200" cy="2763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Polytrichum Moss"/>
          <p:cNvPicPr/>
          <p:nvPr/>
        </p:nvPicPr>
        <p:blipFill>
          <a:blip r:embed="rId2"/>
          <a:stretch/>
        </p:blipFill>
        <p:spPr>
          <a:xfrm>
            <a:off x="5340240" y="741240"/>
            <a:ext cx="3341880" cy="2764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Arctic Tundra Wildflowers - Alaska"/>
          <p:cNvPicPr/>
          <p:nvPr/>
        </p:nvPicPr>
        <p:blipFill>
          <a:blip r:embed="rId3"/>
          <a:stretch/>
        </p:blipFill>
        <p:spPr>
          <a:xfrm>
            <a:off x="4111560" y="3889440"/>
            <a:ext cx="372420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Plants of the Tundr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81bd"/>
                </a:solidFill>
                <a:latin typeface="Calibri"/>
              </a:rPr>
              <a:t>About 1,700 kinds of pla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81bd"/>
                </a:solidFill>
                <a:latin typeface="Calibri"/>
              </a:rPr>
              <a:t>Tiny flowering plants (4 inches or less in height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81bd"/>
                </a:solidFill>
                <a:latin typeface="Calibri"/>
              </a:rPr>
              <a:t>gras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81bd"/>
                </a:solidFill>
                <a:latin typeface="Calibri"/>
              </a:rPr>
              <a:t>lichens – crustose and folios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81bd"/>
                </a:solidFill>
                <a:latin typeface="Calibri"/>
              </a:rPr>
              <a:t>sed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81bd"/>
                </a:solidFill>
                <a:latin typeface="Calibri"/>
              </a:rPr>
              <a:t>willow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TUNDRA – Plant Adap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31840" y="1316160"/>
            <a:ext cx="8454960" cy="55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81bd"/>
                </a:solidFill>
                <a:latin typeface="Calibri"/>
              </a:rPr>
              <a:t>Many of the plants are perennials so they can store food from season to seas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81bd"/>
                </a:solidFill>
                <a:latin typeface="Calibri"/>
              </a:rPr>
              <a:t>Must adapt to strong winds and disturbances in soil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81bd"/>
                </a:solidFill>
                <a:latin typeface="Calibri"/>
              </a:rPr>
              <a:t>Plants are short and group togeth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81bd"/>
                </a:solidFill>
                <a:latin typeface="Calibri"/>
              </a:rPr>
              <a:t>Form little cushions or mats close to the ground where ground is warmer than the air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81bd"/>
                </a:solidFill>
                <a:latin typeface="Calibri"/>
              </a:rPr>
              <a:t>Carry out photosynthesis at low temperatures and low light intensiti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81bd"/>
                </a:solidFill>
                <a:latin typeface="Calibri"/>
              </a:rPr>
              <a:t>Adapt to short growing seasons by reproducing by asexually rather than sexuall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Animals of the Tund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Content Placeholder 5" descr="lemming"/>
          <p:cNvPicPr/>
          <p:nvPr/>
        </p:nvPicPr>
        <p:blipFill>
          <a:blip r:embed="rId1"/>
          <a:stretch/>
        </p:blipFill>
        <p:spPr>
          <a:xfrm>
            <a:off x="1116000" y="1662120"/>
            <a:ext cx="3029040" cy="15908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arctic fox"/>
          <p:cNvPicPr/>
          <p:nvPr/>
        </p:nvPicPr>
        <p:blipFill>
          <a:blip r:embed="rId2"/>
          <a:stretch/>
        </p:blipFill>
        <p:spPr>
          <a:xfrm>
            <a:off x="693720" y="3697200"/>
            <a:ext cx="2971800" cy="1914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a snowy owl"/>
          <p:cNvPicPr/>
          <p:nvPr/>
        </p:nvPicPr>
        <p:blipFill>
          <a:blip r:embed="rId3"/>
          <a:stretch/>
        </p:blipFill>
        <p:spPr>
          <a:xfrm>
            <a:off x="5916600" y="1469880"/>
            <a:ext cx="2857680" cy="1886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musk ox"/>
          <p:cNvPicPr/>
          <p:nvPr/>
        </p:nvPicPr>
        <p:blipFill>
          <a:blip r:embed="rId4"/>
          <a:stretch/>
        </p:blipFill>
        <p:spPr>
          <a:xfrm>
            <a:off x="4533840" y="3774960"/>
            <a:ext cx="346716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70000" y="214200"/>
            <a:ext cx="867384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    </a:t>
            </a: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	</a:t>
            </a: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   </a:t>
            </a: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Animals of the TUND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Primary consumers </a:t>
            </a:r>
            <a:r>
              <a:rPr b="1" lang="en-US" sz="3000" spc="-1" strike="noStrike">
                <a:solidFill>
                  <a:srgbClr val="009900"/>
                </a:solidFill>
                <a:latin typeface="Calibri"/>
              </a:rPr>
              <a:t>(Herbivores) – </a:t>
            </a:r>
            <a:r>
              <a:rPr b="1" lang="en-US" sz="3000" spc="-1" strike="noStrike">
                <a:solidFill>
                  <a:srgbClr val="c10f9f"/>
                </a:solidFill>
                <a:latin typeface="Calibri"/>
              </a:rPr>
              <a:t>lemmings, insects, musk oxen, reinde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Secondary consumers     </a:t>
            </a:r>
            <a:r>
              <a:rPr b="1" lang="en-US" sz="3000" spc="-1" strike="noStrike">
                <a:solidFill>
                  <a:srgbClr val="009900"/>
                </a:solidFill>
                <a:latin typeface="Calibri"/>
              </a:rPr>
              <a:t>( Carnivores) – </a:t>
            </a:r>
            <a:r>
              <a:rPr b="1" lang="en-US" sz="3000" spc="-1" strike="noStrike">
                <a:solidFill>
                  <a:srgbClr val="c10f9f"/>
                </a:solidFill>
                <a:latin typeface="Calibri"/>
              </a:rPr>
              <a:t>snow owls, arctic foxes, polar bear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81bd"/>
                </a:solidFill>
                <a:latin typeface="Calibri"/>
              </a:rPr>
              <a:t>Migratory birds</a:t>
            </a:r>
            <a:r>
              <a:rPr b="1" lang="en-US" sz="3000" spc="-1" strike="noStrike">
                <a:solidFill>
                  <a:srgbClr val="c10f9f"/>
                </a:solidFill>
                <a:latin typeface="Calibri"/>
              </a:rPr>
              <a:t>: ravens, snow buntings, falcons, loons, sandpipers, terns, snow birds, and various species of gul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81bd"/>
                </a:solidFill>
                <a:latin typeface="Calibri"/>
              </a:rPr>
              <a:t>Insects</a:t>
            </a:r>
            <a:r>
              <a:rPr b="1" lang="en-US" sz="3000" spc="-1" strike="noStrike">
                <a:solidFill>
                  <a:srgbClr val="c10f9f"/>
                </a:solidFill>
                <a:latin typeface="Calibri"/>
              </a:rPr>
              <a:t>: mosquitoes, flies, moths, grasshoppers, blackflies and arctic bumble be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81bd"/>
                </a:solidFill>
                <a:latin typeface="Calibri"/>
              </a:rPr>
              <a:t>Fish</a:t>
            </a:r>
            <a:r>
              <a:rPr b="1" lang="en-US" sz="3000" spc="-1" strike="noStrike">
                <a:solidFill>
                  <a:srgbClr val="c10f9f"/>
                </a:solidFill>
                <a:latin typeface="Calibri"/>
              </a:rPr>
              <a:t>: cod, flatfish, salmon, and trou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81bd"/>
                </a:solidFill>
                <a:latin typeface="Calibri"/>
              </a:rPr>
              <a:t>Reptiles and amphibians </a:t>
            </a:r>
            <a:r>
              <a:rPr b="1" lang="en-US" sz="3000" spc="-1" strike="noStrike">
                <a:solidFill>
                  <a:srgbClr val="c10f9f"/>
                </a:solidFill>
                <a:latin typeface="Calibri"/>
              </a:rPr>
              <a:t>are few or abs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10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10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70000" y="214200"/>
            <a:ext cx="86738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7639d"/>
                </a:solidFill>
                <a:latin typeface="Calibri"/>
              </a:rPr>
              <a:t>TUNDRA:  Animal Adapt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31480" y="1469520"/>
            <a:ext cx="872316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Must adapt to extremely cold wint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Breed and raise their young very quickly during the short summ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Many as birds migrate south in the win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Many of those that stay - hibernate during the win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Constant immigration and emigration – Population constantly oscillat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7639d"/>
                </a:solidFill>
                <a:latin typeface="Calibri"/>
              </a:rPr>
              <a:t>Environmental Importance</a:t>
            </a:r>
            <a:br>
              <a:rPr sz="4000"/>
            </a:br>
            <a:r>
              <a:rPr b="1" lang="en-US" sz="4000" spc="-1" strike="noStrike">
                <a:solidFill>
                  <a:srgbClr val="a7639d"/>
                </a:solidFill>
                <a:latin typeface="Calibri"/>
              </a:rPr>
              <a:t>of the TUNDRA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1623600"/>
            <a:ext cx="9144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81bd"/>
                </a:solidFill>
                <a:latin typeface="Calibri"/>
              </a:rPr>
              <a:t>Filters millions of liters of water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81bd"/>
                </a:solidFill>
                <a:latin typeface="Calibri"/>
              </a:rPr>
              <a:t>Stores large amounts of carb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81bd"/>
                </a:solidFill>
                <a:latin typeface="Calibri"/>
              </a:rPr>
              <a:t>The permafrost layers doesn’t normally thaw out, so the organic matter stored in them is effectively trapped forev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81bd"/>
                </a:solidFill>
                <a:latin typeface="Calibri"/>
              </a:rPr>
              <a:t>Global warming lowers the thaw depth, and the peat and organic matter begins decaying inputting of CO</a:t>
            </a:r>
            <a:r>
              <a:rPr b="1" lang="en-US" sz="3600" spc="-1" strike="noStrike" baseline="-25000">
                <a:solidFill>
                  <a:srgbClr val="4f81bd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4f81bd"/>
                </a:solidFill>
                <a:latin typeface="Calibri"/>
              </a:rPr>
              <a:t> to the atmosphe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70000" y="274320"/>
            <a:ext cx="84168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TUNDRA: Environmental Concer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69640" y="1163520"/>
            <a:ext cx="8685000" cy="56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10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10f9f"/>
                </a:solidFill>
                <a:latin typeface="Calibri"/>
              </a:rPr>
              <a:t>Large scale extraction industries </a:t>
            </a:r>
            <a:r>
              <a:rPr b="1" lang="en-US" sz="2500" spc="-1" strike="noStrike">
                <a:solidFill>
                  <a:srgbClr val="4f81bd"/>
                </a:solidFill>
                <a:latin typeface="Calibri"/>
              </a:rPr>
              <a:t>( oil, gas, and minerals as uranium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10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10f9f"/>
                </a:solidFill>
                <a:latin typeface="Calibri"/>
              </a:rPr>
              <a:t>Pollution</a:t>
            </a:r>
            <a:r>
              <a:rPr b="1" lang="en-US" sz="2500" spc="-1" strike="noStrike">
                <a:solidFill>
                  <a:srgbClr val="4f81bd"/>
                </a:solidFill>
                <a:latin typeface="Calibri"/>
              </a:rPr>
              <a:t> – chemical waste, mining, hydroelectric developm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10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10f9f"/>
                </a:solidFill>
                <a:latin typeface="Calibri"/>
              </a:rPr>
              <a:t>Expansion</a:t>
            </a:r>
            <a:r>
              <a:rPr b="1" lang="en-US" sz="2500" spc="-1" strike="noStrike">
                <a:solidFill>
                  <a:srgbClr val="4f81bd"/>
                </a:solidFill>
                <a:latin typeface="Calibri"/>
              </a:rPr>
              <a:t> of agriculture/livestock, vehicular traffic, and tourism increase degra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10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10f9f"/>
                </a:solidFill>
                <a:latin typeface="Calibri"/>
              </a:rPr>
              <a:t>Global warming </a:t>
            </a:r>
            <a:r>
              <a:rPr b="1" lang="en-US" sz="2500" spc="-1" strike="noStrike">
                <a:solidFill>
                  <a:srgbClr val="4f81bd"/>
                </a:solidFill>
                <a:latin typeface="Calibri"/>
              </a:rPr>
              <a:t>– 1/3 of soil bound carbon is found in this area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10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10f9f"/>
                </a:solidFill>
                <a:latin typeface="Calibri"/>
              </a:rPr>
              <a:t>Melting of permafrost </a:t>
            </a:r>
            <a:r>
              <a:rPr b="1" lang="en-US" sz="2500" spc="-1" strike="noStrike">
                <a:solidFill>
                  <a:srgbClr val="4f81bd"/>
                </a:solidFill>
                <a:latin typeface="Calibri"/>
              </a:rPr>
              <a:t>releases large amounts of carbon into the atmosphere increas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10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10f9f"/>
                </a:solidFill>
                <a:latin typeface="Calibri"/>
              </a:rPr>
              <a:t>“</a:t>
            </a:r>
            <a:r>
              <a:rPr b="1" lang="en-US" sz="2500" spc="-1" strike="noStrike">
                <a:solidFill>
                  <a:srgbClr val="c10f9f"/>
                </a:solidFill>
                <a:latin typeface="Calibri"/>
              </a:rPr>
              <a:t>Greenhouse Affect” </a:t>
            </a:r>
            <a:r>
              <a:rPr b="1" lang="en-US" sz="2500" spc="-1" strike="noStrike">
                <a:solidFill>
                  <a:srgbClr val="4f81bd"/>
                </a:solidFill>
                <a:latin typeface="Calibri"/>
              </a:rPr>
              <a:t>as organic matter decays and released carbon dioxide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10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10f9f"/>
                </a:solidFill>
                <a:latin typeface="Calibri"/>
              </a:rPr>
              <a:t>Erosion</a:t>
            </a:r>
            <a:r>
              <a:rPr b="1" lang="en-US" sz="2500" spc="-1" strike="noStrike">
                <a:solidFill>
                  <a:srgbClr val="4f81bd"/>
                </a:solidFill>
                <a:latin typeface="Calibri"/>
              </a:rPr>
              <a:t> is emerging due to permafrost thaw  and overgrazing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10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10f9f"/>
                </a:solidFill>
                <a:latin typeface="Calibri"/>
              </a:rPr>
              <a:t>Poaching</a:t>
            </a:r>
            <a:r>
              <a:rPr b="1" lang="en-US" sz="2500" spc="-1" strike="noStrike">
                <a:solidFill>
                  <a:srgbClr val="4f81bd"/>
                </a:solidFill>
                <a:latin typeface="Calibri"/>
              </a:rPr>
              <a:t> – hunting and fishing out of season, on protected land, or to endangered speci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TUNDRA:  Role in Earth’s Clima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81bd"/>
                </a:solidFill>
                <a:latin typeface="Calibri"/>
              </a:rPr>
              <a:t>global warming is happening at twice the rate of more temperate regions of the ear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81bd"/>
                </a:solidFill>
                <a:latin typeface="Calibri"/>
              </a:rPr>
              <a:t>affect the release or retention of greenhouse gases such as carbon dioxide and metha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81bd"/>
                </a:solidFill>
                <a:latin typeface="Calibri"/>
              </a:rPr>
              <a:t>methane is 20 times more efficient at trapping warmth than carbon dioxi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81bd"/>
                </a:solidFill>
                <a:latin typeface="Calibri"/>
              </a:rPr>
              <a:t>soil nutrients, plant type, and plant biomass will be affected by changes in soil moisture and can  modify the amount and types of greenhouse ga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81bd"/>
                </a:solidFill>
                <a:latin typeface="Calibri"/>
              </a:rPr>
              <a:t>the climate balance could tip not just in the Arctic, but throughout the worl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7639d"/>
                </a:solidFill>
                <a:latin typeface="Calibri"/>
              </a:rPr>
              <a:t>Section I:  General Principles of Ecology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1880" y="2017800"/>
            <a:ext cx="849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ECOLOGY</a:t>
            </a:r>
            <a:r>
              <a:rPr b="1" lang="en-US" sz="2800" spc="-1" strike="noStrike">
                <a:solidFill>
                  <a:srgbClr val="009900"/>
                </a:solidFill>
                <a:latin typeface="Calibri"/>
              </a:rPr>
              <a:t> – how organisms interact with one another and with their environment</a:t>
            </a:r>
            <a:r>
              <a:rPr b="1" lang="en-US" sz="24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ENVIRONMENT</a:t>
            </a:r>
            <a:r>
              <a:rPr b="1" lang="en-US" sz="2800" spc="-1" strike="noStrike">
                <a:solidFill>
                  <a:srgbClr val="009900"/>
                </a:solidFill>
                <a:latin typeface="Calibri"/>
              </a:rPr>
              <a:t> – living and non-living compon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ABIOTIC</a:t>
            </a:r>
            <a:r>
              <a:rPr b="1" lang="en-US" sz="2800" spc="-1" strike="noStrike">
                <a:solidFill>
                  <a:srgbClr val="009900"/>
                </a:solidFill>
                <a:latin typeface="Calibri"/>
              </a:rPr>
              <a:t> – non-living component or physical factors as soil, rainfall, sunlight, tempera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BIOTIC</a:t>
            </a:r>
            <a:r>
              <a:rPr b="1" lang="en-US" sz="2800" spc="-1" strike="noStrike">
                <a:solidFill>
                  <a:srgbClr val="009900"/>
                </a:solidFill>
                <a:latin typeface="Calibri"/>
              </a:rPr>
              <a:t> – living component are other organisms</a:t>
            </a:r>
            <a:r>
              <a:rPr b="1" lang="en-US" sz="2400" spc="-1" strike="noStrike">
                <a:solidFill>
                  <a:srgbClr val="009900"/>
                </a:solidFill>
                <a:latin typeface="Calibri"/>
              </a:rPr>
              <a:t>.</a:t>
            </a:r>
            <a:r>
              <a:rPr b="1" lang="en-US" sz="20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7440" y="214200"/>
            <a:ext cx="836604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ECOLOGICAL ORGA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5560" y="201780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INDIVIDUAL</a:t>
            </a:r>
            <a:r>
              <a:rPr b="1" lang="en-US" sz="3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Calibri"/>
              </a:rPr>
              <a:t>– individual organis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POPULATION</a:t>
            </a: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Calibri"/>
              </a:rPr>
              <a:t>– organisms of same species in same area (biotic facto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COMMUNITY</a:t>
            </a: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Calibri"/>
              </a:rPr>
              <a:t>– several populations in same area (biotic factors)</a:t>
            </a:r>
            <a:r>
              <a:rPr b="1" lang="en-US" sz="32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ECOSYSTEM</a:t>
            </a: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Calibri"/>
              </a:rPr>
              <a:t>– community plus abiotic facto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BIOSPHERE</a:t>
            </a: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Calibri"/>
              </a:rPr>
              <a:t>– all ecosystems on eart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66920" y="190440"/>
            <a:ext cx="626760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ECOLOGY OF INDIVIDU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2008080"/>
            <a:ext cx="883440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Homeostasis </a:t>
            </a:r>
            <a:r>
              <a:rPr b="1" lang="en-US" sz="3200" spc="-1" strike="noStrike">
                <a:solidFill>
                  <a:srgbClr val="009900"/>
                </a:solidFill>
                <a:latin typeface="Calibri"/>
              </a:rPr>
              <a:t>– delicate balance</a:t>
            </a:r>
            <a:r>
              <a:rPr b="1" lang="en-US" sz="3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Compone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alibri"/>
              </a:rPr>
              <a:t>Physiological Ecolog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alibri"/>
              </a:rPr>
              <a:t>Temperature and Water Bal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alibri"/>
              </a:rPr>
              <a:t>Light and Biological Cyc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alibri"/>
              </a:rPr>
              <a:t>Physiological Ecology and Conservation</a:t>
            </a:r>
            <a:r>
              <a:rPr b="1" lang="en-US" sz="28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ECOLOGY OF POPUL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1880" y="2017800"/>
            <a:ext cx="849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Properties of popu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Patterns of distribution and den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Intraspecific compet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Population dynam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Growth and reg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Altering population grow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Human impact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arenLancour</dc:creator>
  <dc:description/>
  <dc:language>en-US</dc:language>
  <cp:lastModifiedBy>Karen Lancour</cp:lastModifiedBy>
  <dcterms:modified xsi:type="dcterms:W3CDTF">2010-07-17T16:27:35Z</dcterms:modified>
  <cp:revision>60</cp:revision>
  <dc:subject/>
  <dc:title>PowerPoint Presentation</dc:title>
</cp:coreProperties>
</file>